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67A-6C05-4F52-959D-439455D0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BCF-4C8D-480A-9647-85E738D5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7F0-FF60-4231-92C7-AF1494C3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24A-82E0-4B4A-A3F8-AC6CAF44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0E1-5777-4E09-A6F8-AB4F7F48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D3D-0A5E-4061-B2D7-2C7FC607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426-A30D-48AB-93FC-EA8B7381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46D-C476-4F4B-914E-825BBF71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AC9-0FEA-4A03-8185-4F9D3D28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833-3103-488B-8210-05897463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A2F-B93A-4D41-B344-CD77C83B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AFE-0FA3-4951-A709-E6A9D3C2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9461-07BA-418D-A0BA-293901B40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usteye.files.wordpress.com/2007/01/photo-corruption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haggar.pocketheaven.com/collection/dvd1.jpg&amp;imgrefurl=http://www.gamestm.co.uk/forum/viewtopic.php%3Ft%3D1859%26sid%3D2351dd536c6159a657ff7f80b4b4df8b&amp;h=800&amp;w=600&amp;sz=82&amp;hl=en&amp;start=6&amp;um=1&amp;tbnid=SYkScpgLp8JlMM:&amp;tbnh=143&amp;tbnw=107&amp;prev=/images%3Fq%3Dmovie%2Bcollection%26um%3D1%26hl%3Den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m/imgres?imgurl=http://agonist.org/files/active/1/absolut-corruption-2politicaljunkies.JPG&amp;imgrefurl=http://agonist.org/diary/ian_welsh%3Ffrom%3D175&amp;h=712&amp;w=495&amp;sz=154&amp;hl=en&amp;start=6&amp;um=1&amp;tbnid=uqj8yrKatE1BtM:&amp;tbnh=140&amp;tbnw=97&amp;prev=/images%3Fq%3Dcorruption%26um%3D1%26hl%3Den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ages.google.com/imgres?imgurl=http://wilderdom.com/images/Conformity.jpg&amp;imgrefurl=http://wilderdom.com/psychology/social/introduction/Influence.html&amp;h=195&amp;w=252&amp;sz=17&amp;hl=en&amp;start=12&amp;um=1&amp;tbnid=kAnGh_b29e9UlM:&amp;tbnh=86&amp;tbnw=111&amp;prev=/images%3Fq%3Dconformity%26um%3D1%26hl%3Den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keaner.net/sketch/virus.php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http://images.google.com/imgres?imgurl=http://www.screenhead.com/wp-content/uploads/2007/07/bm1178video-games-posters.jpg&amp;imgrefurl=http://www.screenhead.com/reviews/category/technology/&amp;h=425&amp;w=304&amp;sz=36&amp;hl=en&amp;start=2&amp;um=1&amp;tbnid=vN3Hqo1AfpyJqM:&amp;tbnh=126&amp;tbnw=90&amp;prev=/images%3Fq%3Dvideo%2Bgames%26um%3D1%26hl%3Den" TargetMode="External"/><Relationship Id="rId13" Type="http://schemas.openxmlformats.org/officeDocument/2006/relationships/image" Target="../media/image7.jpeg"/><Relationship Id="rId14" Type="http://schemas.openxmlformats.org/officeDocument/2006/relationships/hyperlink" Target="http://images.google.com/imgres?imgurl=http://jdfrey.files.wordpress.com/2006/11/ipod.jpg&amp;imgrefurl=http://jdfrey.wordpress.com/2006/11/27/ipod-alternatives/&amp;h=500&amp;w=306&amp;sz=43&amp;hl=en&amp;start=5&amp;um=1&amp;tbnid=f36pyRtziGFEpM:&amp;tbnh=130&amp;tbnw=80&amp;prev=/images%3Fq%3Dipod%26um%3D1%26hl%3Den" TargetMode="External"/><Relationship Id="rId15" Type="http://schemas.openxmlformats.org/officeDocument/2006/relationships/image" Target="../media/image8.jpeg"/><Relationship Id="rId16" Type="http://schemas.openxmlformats.org/officeDocument/2006/relationships/hyperlink" Target="http://images.google.com/imgres?imgurl=http://www.iusb.edu/~cted/summer/img/Computer.JPG&amp;imgrefurl=http://www.iusb.edu/~cted/fall/computers.shtml&amp;h=377&amp;w=353&amp;sz=20&amp;hl=en&amp;start=1&amp;um=1&amp;tbnid=JY0zA4972ttCLM:&amp;tbnh=122&amp;tbnw=114&amp;prev=/images%3Fq%3Dcomputer%26um%3D1%26hl%3Den" TargetMode="External"/><Relationship Id="rId17" Type="http://schemas.openxmlformats.org/officeDocument/2006/relationships/image" Target="../media/image9.jpeg"/><Relationship Id="rId18" Type="http://schemas.openxmlformats.org/officeDocument/2006/relationships/hyperlink" Target="http://images.google.com/imgres?imgurl=http://www.devlin.co.za/web/Portals/0/Blog/Humus/Demotivational%2520Posters/Conformity.jpg&amp;imgrefurl=http://www.devlin.co.za/web/BlogZ/tabid/53/EntryID/74/Default.aspx&amp;h=480&amp;w=600&amp;sz=151&amp;hl=en&amp;start=13&amp;um=1&amp;tbnid=22kG9W2Mq5oaiM:&amp;tbnh=108&amp;tbnw=135&amp;prev=/images%3Fq%3Dconformity%26um%3D1%26hl%3Den" TargetMode="External"/><Relationship Id="rId19" Type="http://schemas.openxmlformats.org/officeDocument/2006/relationships/image" Target="../media/image10.jpeg"/><Relationship Id="rId20" Type="http://schemas.openxmlformats.org/officeDocument/2006/relationships/hyperlink" Target="http://images.google.com/imgres?imgurl=http://www.tvblanket.com/image/the_office_tv_show.JPG&amp;imgrefurl=http://www.tvblanket.com/tv_shows.html&amp;h=308&amp;w=410&amp;sz=62&amp;hl=en&amp;start=3&amp;um=1&amp;tbnid=pKhP2NYvFDgoZM:&amp;tbnh=94&amp;tbnw=125&amp;prev=/images%3Fq%3Dtv%2Bshows%26um%3D1%26hl%3Den" TargetMode="External"/><Relationship Id="rId21" Type="http://schemas.openxmlformats.org/officeDocument/2006/relationships/image" Target="../media/image11.jpeg"/><Relationship Id="rId22" Type="http://schemas.openxmlformats.org/officeDocument/2006/relationships/hyperlink" Target="http://images.google.com/imgres?imgurl=http://www.impawards.com/1995/posters/billy_madison_ver1.jpg&amp;imgrefurl=http://www.impawards.com/1995/billy_madison_ver1.html&amp;h=755&amp;w=511&amp;sz=92&amp;hl=en&amp;start=1&amp;um=1&amp;tbnid=kKHNz6-lYnaRvM:&amp;tbnh=142&amp;tbnw=96&amp;prev=/images%3Fq%3Dbilly%2Bmadison%26um%3D1%26hl%3Den" TargetMode="External"/><Relationship Id="rId23" Type="http://schemas.openxmlformats.org/officeDocument/2006/relationships/image" Target="../media/image12.jpeg"/><Relationship Id="rId24" Type="http://schemas.openxmlformats.org/officeDocument/2006/relationships/hyperlink" Target="http://images.google.com/imgres?imgurl=http://www.honestmediatoday.com/Censorship.gif&amp;imgrefurl=http://www.honestmediatoday.com/archives_09.htm&amp;h=1030&amp;w=1374&amp;sz=383&amp;hl=en&amp;start=1&amp;um=1&amp;tbnid=6320S2oCo1SXYM:&amp;tbnh=112&amp;tbnw=150&amp;prev=/images%3Fq%3Dcensorship%26um%3D1%26hl%3Den" TargetMode="External"/><Relationship Id="rId25" Type="http://schemas.openxmlformats.org/officeDocument/2006/relationships/image" Target="../media/image13.jpeg"/><Relationship Id="rId26" Type="http://schemas.openxmlformats.org/officeDocument/2006/relationships/hyperlink" Target="http://images.google.com/imgres?imgurl=http://www.charlesmoffat.com/paintings/CharlesMoffat-United-States-Censorship-2001.jpg&amp;imgrefurl=http://www.charlesmoffat.com/paintings/unitedstatescensorship.html&amp;h=600&amp;w=564&amp;sz=72&amp;hl=en&amp;start=28&amp;um=1&amp;tbnid=4ibwXVU4S1sNGM:&amp;tbnh=135&amp;tbnw=127&amp;prev=/images%3Fq%3Dcensorship%26start%3D20%26ndsp%3D20%26um%3D1%26hl%3Den%26sa%3DN" TargetMode="External"/><Relationship Id="rId27" Type="http://schemas.openxmlformats.org/officeDocument/2006/relationships/image" Target="../media/image14.jpeg"/><Relationship Id="rId28" Type="http://schemas.openxmlformats.org/officeDocument/2006/relationships/image" Target="../media/image15.jpeg"/><Relationship Id="rId29" Type="http://schemas.openxmlformats.org/officeDocument/2006/relationships/hyperlink" Target="http://images.google.com/imgres?imgurl=http://radicalgraphics.org/albums/Censorship/censorship.sized.jpg&amp;imgrefurl=http://www.detroitiscrap.com/archives/category/controlled-media-and-censorship&amp;h=700&amp;w=523&amp;sz=50&amp;hl=en&amp;start=7&amp;um=1&amp;tbnid=Q9_7P-XvPeRh6M:&amp;tbnh=140&amp;tbnw=105&amp;prev=/images%3Fq%3Dcensorship%26um%3D1%26hl%3Den" TargetMode="External"/><Relationship Id="rId30" Type="http://schemas.openxmlformats.org/officeDocument/2006/relationships/image" Target="../media/image16.jpeg"/><Relationship Id="rId31" Type="http://schemas.openxmlformats.org/officeDocument/2006/relationships/image" Target="../media/image17.jpeg"/><Relationship Id="rId32" Type="http://schemas.openxmlformats.org/officeDocument/2006/relationships/hyperlink" Target="http://images.google.com/imgres?imgurl=http://calliopewomenschorus.org/Images/myspace.gif&amp;imgrefurl=http://calliopewomenschorus.org/&amp;h=300&amp;w=300&amp;sz=13&amp;hl=en&amp;start=1&amp;um=1&amp;tbnid=h5uOEUB3ky3b0M:&amp;tbnh=116&amp;tbnw=116&amp;prev=/images%3Fq%3Dmyspace%26um%3D1%26hl%3Den" TargetMode="External"/><Relationship Id="rId33" Type="http://schemas.openxmlformats.org/officeDocument/2006/relationships/image" Target="../media/image18.jpeg"/><Relationship Id="rId34" Type="http://schemas.openxmlformats.org/officeDocument/2006/relationships/hyperlink" Target="http://images.google.com/imgres?imgurl=http://pressthebuttons.typepad.com/photos/uncategorized/gtaao.jpg&amp;imgrefurl=http://www.pressthebuttons.com/politics_and_law/&amp;h=282&amp;w=300&amp;sz=35&amp;hl=en&amp;start=20&amp;um=1&amp;tbnid=6uXnIsK0toZ49M:&amp;tbnh=109&amp;tbnw=116&amp;prev=/images%3Fq%3Dcorrupt%2Bpolitics%2Bcensors%26um%3D1%26hl%3Den" TargetMode="External"/><Relationship Id="rId35" Type="http://schemas.openxmlformats.org/officeDocument/2006/relationships/image" Target="../media/image19.jpeg"/><Relationship Id="rId36" Type="http://schemas.openxmlformats.org/officeDocument/2006/relationships/hyperlink" Target="http://images.google.com/imgres?imgurl=http://news.filefront.com/wp-content/uploads/2007/10/video-games-live.jpg&amp;imgrefurl=http://news.filefront.com/video-games-live-creating-new-music-for-los-angeles-show/&amp;h=480&amp;w=549&amp;sz=106&amp;hl=en&amp;start=9&amp;um=1&amp;tbnid=C9Tfz3vktp4YYM:&amp;tbnh=116&amp;tbnw=133&amp;prev=/images%3Fq%3Dvideo%2Bgames%26um%3D1%26hl%3Den" TargetMode="External"/><Relationship Id="rId37" Type="http://schemas.openxmlformats.org/officeDocument/2006/relationships/image" Target="../media/image20.jpeg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Courtesy from prblog.typepad.com"/>
          <p:cNvPicPr/>
          <p:nvPr/>
        </p:nvPicPr>
        <p:blipFill>
          <a:blip r:embed="rId1"/>
          <a:stretch/>
        </p:blipFill>
        <p:spPr>
          <a:xfrm>
            <a:off x="5943600" y="1523880"/>
            <a:ext cx="3200400" cy="2624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42" name="Picture 56" descr="http://tbn0.google.com/images?q=tbn:ZzSCUyID_wg5bM:http://dusteye.files.wordpress.com/2007/01/photo-corrupti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362320"/>
            <a:ext cx="271620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2" descr="http://tbn0.google.com/images?q=tbn:SYkScpgLp8JlMM:http://haggar.pocketheaven.com/collection/dvd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362320"/>
            <a:ext cx="60948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tbn0.google.com/images?q=tbn:uqj8yrKatE1BtM:http://agonist.org/files/active/1/absolut-corruption-2politicaljunkie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54880" y="0"/>
            <a:ext cx="1689120" cy="2666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45" name="Picture 16" descr="http://tbn0.google.com/images?q=tbn:kAnGh_b29e9UlM:http://wilderdom.com/images/Conformity.jpg">
            <a:hlinkClick r:id="rId8"/>
          </p:cNvPr>
          <p:cNvPicPr/>
          <p:nvPr/>
        </p:nvPicPr>
        <p:blipFill>
          <a:blip r:embed="rId9"/>
          <a:stretch/>
        </p:blipFill>
        <p:spPr>
          <a:xfrm rot="20951400">
            <a:off x="772920" y="-326880"/>
            <a:ext cx="3247920" cy="251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virus - confor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842000" y="3733920"/>
            <a:ext cx="4302000" cy="3124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47" name="Picture 24" descr="http://tbn0.google.com/images?q=tbn:vN3Hqo1AfpyJqM:http://www.screenhead.com/wp-content/uploads/2007/07/bm1178video-games-posters.jpg">
            <a:hlinkClick r:id="rId12"/>
          </p:cNvPr>
          <p:cNvPicPr/>
          <p:nvPr/>
        </p:nvPicPr>
        <p:blipFill>
          <a:blip r:embed="rId13"/>
          <a:stretch/>
        </p:blipFill>
        <p:spPr>
          <a:xfrm rot="1607400">
            <a:off x="-109440" y="3600360"/>
            <a:ext cx="1616040" cy="1998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48" name="Picture 6" descr="http://tbn0.google.com/images?q=tbn:f36pyRtziGFEpM:http://jdfrey.files.wordpress.com/2006/11/ipod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733920" y="2133720"/>
            <a:ext cx="1447560" cy="235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8" descr="http://tbn0.google.com/images?q=tbn:JY0zA4972ttCLM:http://www.iusb.edu/~cted/summer/img/Computer.JPG">
            <a:hlinkClick r:id="rId16"/>
          </p:cNvPr>
          <p:cNvPicPr/>
          <p:nvPr/>
        </p:nvPicPr>
        <p:blipFill>
          <a:blip r:embed="rId17"/>
          <a:stretch/>
        </p:blipFill>
        <p:spPr>
          <a:xfrm rot="603600">
            <a:off x="2622600" y="4238280"/>
            <a:ext cx="2441520" cy="261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http://tbn0.google.com/images?q=tbn:22kG9W2Mq5oaiM:http://www.devlin.co.za/web/Portals/0/Blog/Humus/Demotivational%2520Posters/Conformity.jp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-95400" y="5334120"/>
            <a:ext cx="1905120" cy="1523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51" name="Picture 4" descr="http://tbn0.google.com/images?q=tbn:pKhP2NYvFDgoZM:http://www.tvblanket.com/image/the_office_tv_show.JPG">
            <a:hlinkClick r:id="rId20"/>
          </p:cNvPr>
          <p:cNvPicPr/>
          <p:nvPr/>
        </p:nvPicPr>
        <p:blipFill>
          <a:blip r:embed="rId21"/>
          <a:stretch/>
        </p:blipFill>
        <p:spPr>
          <a:xfrm rot="19723200">
            <a:off x="946080" y="4185720"/>
            <a:ext cx="2017800" cy="1517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52" name="Picture 40" descr="http://tbn0.google.com/images?q=tbn:kKHNz6-lYnaRvM:http://www.impawards.com/1995/posters/billy_madison_ver1.jpg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0" y="914400"/>
            <a:ext cx="1066680" cy="157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http://tbn0.google.com/images?q=tbn:6320S2oCo1SXYM:http://www.honestmediatoday.com/Censorship.gif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676520" y="5151600"/>
            <a:ext cx="2286000" cy="170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8" descr="http://tbn0.google.com/images?q=tbn:4ibwXVU4S1sNGM:http://www.charlesmoffat.com/paintings/CharlesMoffat-United-States-Censorship-2001.jpg">
            <a:hlinkClick r:id="rId26"/>
          </p:cNvPr>
          <p:cNvPicPr/>
          <p:nvPr/>
        </p:nvPicPr>
        <p:blipFill>
          <a:blip r:embed="rId27"/>
          <a:stretch/>
        </p:blipFill>
        <p:spPr>
          <a:xfrm rot="20731200">
            <a:off x="4994280" y="2185920"/>
            <a:ext cx="1857240" cy="1832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0" descr="Ignorance"/>
          <p:cNvPicPr/>
          <p:nvPr/>
        </p:nvPicPr>
        <p:blipFill>
          <a:blip r:embed="rId28"/>
          <a:stretch/>
        </p:blipFill>
        <p:spPr>
          <a:xfrm>
            <a:off x="3657600" y="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4" descr="http://tbn0.google.com/images?q=tbn:Q9_7P-XvPeRh6M:http://radicalgraphics.org/albums/Censorship/censorship.sized.jpg">
            <a:hlinkClick r:id="rId29"/>
          </p:cNvPr>
          <p:cNvPicPr/>
          <p:nvPr/>
        </p:nvPicPr>
        <p:blipFill>
          <a:blip r:embed="rId30"/>
          <a:stretch/>
        </p:blipFill>
        <p:spPr>
          <a:xfrm rot="20787000">
            <a:off x="2162160" y="1306080"/>
            <a:ext cx="1658880" cy="221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2" descr="http://www.lifeinthefreshlane.com/wp-content/uploads/2007/10/ha-ha-im-using-the-internet.jpg"/>
          <p:cNvPicPr/>
          <p:nvPr/>
        </p:nvPicPr>
        <p:blipFill>
          <a:blip r:embed="rId31"/>
          <a:stretch/>
        </p:blipFill>
        <p:spPr>
          <a:xfrm>
            <a:off x="609480" y="990720"/>
            <a:ext cx="212112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tbn0.google.com/images?q=tbn:h5uOEUB3ky3b0M:http://calliopewomenschorus.org/Images/myspace.gif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2438280" y="3276720"/>
            <a:ext cx="152424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59" name="Picture 54" descr="http://tbn0.google.com/images?q=tbn:6uXnIsK0toZ49M:http://pressthebuttons.typepad.com/photos/uncategorized/gtaao.jpg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5943600" y="0"/>
            <a:ext cx="1523880" cy="1432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http://tbn0.google.com/images?q=tbn:C9Tfz3vktp4YYM:http://news.filefront.com/wp-content/uploads/2007/10/video-games-live.jpg">
            <a:hlinkClick r:id="rId36"/>
          </p:cNvPr>
          <p:cNvPicPr/>
          <p:nvPr/>
        </p:nvPicPr>
        <p:blipFill>
          <a:blip r:embed="rId37"/>
          <a:stretch/>
        </p:blipFill>
        <p:spPr>
          <a:xfrm rot="20314200">
            <a:off x="5991120" y="929880"/>
            <a:ext cx="1602000" cy="1397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http://tbn0.google.com/images?q=tbn:iK-g9JJ-OpWBsM:http://theithacan.org/blogs/brink/files/2007/12/130-126big-brother-is-watching-you-posters.jpg"/>
          <p:cNvPicPr/>
          <p:nvPr/>
        </p:nvPicPr>
        <p:blipFill>
          <a:blip r:embed="rId38"/>
          <a:stretch/>
        </p:blipFill>
        <p:spPr>
          <a:xfrm>
            <a:off x="0" y="0"/>
            <a:ext cx="7621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6:33:50Z</dcterms:created>
  <dc:creator>GASTON COLLEGE</dc:creator>
  <dc:description/>
  <dc:language>en-US</dc:language>
  <cp:lastModifiedBy>GASTON COLLEGE</cp:lastModifiedBy>
  <dcterms:modified xsi:type="dcterms:W3CDTF">2008-05-01T20:51:15Z</dcterms:modified>
  <cp:revision>19</cp:revision>
  <dc:subject/>
  <dc:title>Slide 1</dc:title>
</cp:coreProperties>
</file>